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385-ED8D-449A-BE95-27C561E0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C8F-5156-4EBC-85E4-EA8F28AC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AA999-1BFF-48B8-949D-6558F439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6BAE3-CFD9-4E14-98C0-90DA6444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4B773-9957-44A3-A4EC-2B04E0B9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F1B49-4BD7-4FC7-B435-FDABB4EC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014D8-4962-4A9E-A151-BB99FF1D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7B6E9-2372-4C47-A7F7-86036C14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1F57D-6275-4124-A981-DC34EDCE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793B4-293A-4BC7-9F45-78075553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87422-EB76-4FE6-82D0-BD2C553D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14E-5EC3-4AF6-BF17-4B9DAEDE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6C2-F1F4-494B-B47D-25650625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C065-EE3F-4830-9CA8-E63C8A9B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8053-FBEC-402D-BE11-C19DDACE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DFF2-0581-41AE-B93E-1C7BEDCB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875E-FCF0-4522-8048-0A091AA3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52F0-7C22-4F78-B152-C65FED15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1C84-D0EE-4093-A28B-F971EA7A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D1A0-BEF0-4FD8-A906-97DC3E0D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EC5-95DD-43F8-BD95-04A6693B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2D79-01D8-4817-A217-EE025DB7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52F1-2C4B-421C-8E35-F89C57E3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BF6B-B759-4581-A411-F74925B0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C44D-CA1E-4730-8C0A-816B2DE5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DAD7-58EE-4384-ACA2-5B2673AA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DBA86-CF23-4D8C-A251-7BA9386B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ECA6D-5056-41D7-A631-A2946497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4FDB1-97B9-4428-AC91-A479E28D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9E559-6848-4F4F-BF9F-27DCD803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BD918-EE3A-457B-9CB1-1FAA635F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0FC-78B7-45D5-A4DB-CA583657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F2BCD-0ADA-491E-A54F-3CE31819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543C9-4781-415D-AE70-21858E90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F7234-908A-4057-89CD-17EDD488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6B80D-DF7F-4719-AB7E-629D9F4B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5915C-4C31-4D0B-9294-6DFB50AE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EA479-130B-462E-92AE-2DD07BD7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F221B-1644-477C-A6BF-60D5148A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F55D7-C461-497F-A79A-0B9E3658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B762E-F3FF-412D-8172-F3FD01AB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04978-73BA-4E87-9AE7-876A521C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CE8-20E4-4C55-B1E6-382C010C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D108A-908E-4922-ABAC-4B3597CD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2DD0A-2908-4D2D-9001-CDB33E5A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E467A-A8BE-4FE8-A279-DDFE42FA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86A5B-480C-4A65-9AAF-F505701D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C72FE-869A-4D98-ACD9-174467FE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DFBC9-B93E-40D2-8BEE-E867C612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15FAD-8690-4D20-BA8B-AC849D89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6B68E-1BBC-4047-AD7A-8FF84805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8154B-082F-44D8-B734-95FC294A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D3B64-25FC-48DD-A4F4-4DE47DFC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2AD-4BEA-45FF-9F41-411B6DD8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47D9A-6A01-4041-A319-B1E09A57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8CDCB-6A6B-407F-908F-95A3919A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52944-1C39-405E-B686-F92BB560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3D20B-4D2D-4171-A7C5-B2282A1C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C71C1-B6EE-486F-904B-5AF52995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ED5E0-F133-48D1-8FFB-214498BB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9034C-4FA6-4D30-B17A-1B0160B7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4CB3B-9783-48C8-B29A-6DF38BE5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E8D1F-347B-4F17-A207-0AA8978F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2E970-9ACA-42BB-8409-9159B73E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1CA-4020-4CF5-B3A3-C79E94FE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F57C6-EAE4-4E91-9767-160A19A1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015CD-2185-405A-A0A7-FAB55A90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29F01-F110-478A-8B8B-88835F2E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A65BE-BA06-4D4F-BF79-F8949B38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B544D-0242-42BF-BB43-4480137B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5FC16-788F-4653-AD03-DF61FB89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CB648-9905-4E62-BE74-80237A11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31EB1-7233-4BC6-A723-7401EA88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1246F-6AF4-4073-A8EB-68B4D23B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B677F-B8A5-403A-9FE7-DEB4BB29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368-5149-447E-A971-0F085AE5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2CC82-B2F7-49B0-9A7A-2717FEBF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D05FA-5AAD-4E2C-A1F4-830562AE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9F2C6-B851-437D-83CE-236C2C2C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E3B88-2EAF-40EA-A2F4-F5EC5944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02449-7CCA-4D4C-B8DC-87874146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6D87E-ACDD-4E7B-ADAC-58708757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ACE2B-D495-4CE7-BD12-9671A2AE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0443F-4D48-45F9-BED5-B4A8BB66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14816-29EB-43C1-B8DC-E02A40CE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A1A8F-4294-48DC-A06B-F2FB054A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36F-1085-4B30-B184-B6963C50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91E48-5104-4E64-A673-02C2FBA4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8378E-F07F-4424-B8BA-4F5550A5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F728B-5AEC-4772-8C3D-1E179CC6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0DCDD-3A5C-4DA2-950C-BE97FC3D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4456E-164B-4685-A63E-EFA4AC94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3FC09-558B-4DEF-B054-8AECBABA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D9716-88C8-46A0-B6FD-EA341343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0C517-FADB-45BD-97DF-ABE8E3E7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C302E-A8A3-4C8D-A18C-F737F2F2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C638E-0ECB-496A-86CE-7A3B6C22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275-E056-42CA-9A86-3C2B94DA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0F616-1527-40EE-B086-CA2E13EC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6BFAA-5C1B-41E5-B0E6-4FD4AAD8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8227D-DD3D-405E-8CAB-AD428B15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D9743-8913-460B-A918-7B90E0D7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35202-73C3-41C2-9159-2BD8CC3F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0A27C-669A-44BB-8C9B-9A5600BC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A8911-BFD3-4889-A9A3-1C1A9A7E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91675-6BB4-4677-AFAD-F29B539C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B2B67-F70F-4AA0-A06F-54F29AB0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6C960-E7E3-4D40-8E5E-F88DB61F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7482-50B5-4988-932D-F94EB6DEEEF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A54E-4B46-47AC-82C0-FE8275796CF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EC8A-00EC-47B1-B95D-83AF5C1A555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B589-C7F4-4433-B1E8-60718BB3487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1428-BA36-4482-AA8C-60F47DEFBB9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83DB-9CFB-44FD-88E5-15A2345DDF2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794D-AB7B-4535-9727-3D96D4CCA7B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8F70-10FE-45AC-AD32-07B54A8A161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4B41-E1D6-471B-81FF-9A9AAFB8FFD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Vecteurs_somme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2"/>
          <p:cNvSpPr/>
          <p:nvPr/>
        </p:nvSpPr>
        <p:spPr>
          <a:xfrm>
            <a:off x="285840" y="71424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Как поделиться вектором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1071720" y="564372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ученик 8 «а» класса СШ №25 Мажутко Вален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http://upload.wikimedia.org/wikipedia/commons/3/3b/Vecteurs_somm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1928880"/>
            <a:ext cx="32828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85680" y="353880"/>
            <a:ext cx="8893080" cy="11462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3760"/>
            <a:ext cx="8686800" cy="26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75240" indent="40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ктор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- это направленный прямолинейный отрезок, т. е. отрезок, имеющий определенную длину и определенное направление. Если А — начало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ктор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, а В - его конец, то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ктор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обозначается символом АВ или 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4" descr="рисунок 1"/>
          <p:cNvPicPr/>
          <p:nvPr/>
        </p:nvPicPr>
        <p:blipFill>
          <a:blip r:embed="rId2"/>
          <a:stretch/>
        </p:blipFill>
        <p:spPr>
          <a:xfrm>
            <a:off x="2786040" y="4214880"/>
            <a:ext cx="28576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усть а и b— два произвольных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ктор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 Возьмем произвольную точку О и построим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ктор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А=а. От точки А отложим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ктор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В = b . Вектор ОВ, соединяющий начало первого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ктор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с концом второго, называется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уммой векторов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 и b :О B=а+b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http://www.znannya.org/images/math/lect/lect1-04-pic/lect1-3.jpg"/>
          <p:cNvPicPr/>
          <p:nvPr/>
        </p:nvPicPr>
        <p:blipFill>
          <a:blip r:embed="rId2"/>
          <a:stretch/>
        </p:blipFill>
        <p:spPr>
          <a:xfrm>
            <a:off x="5214960" y="1571760"/>
            <a:ext cx="2924280" cy="885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http://www.znannya.org/images/math/lect/lect1-04-pic/lect1-4.jpg"/>
          <p:cNvPicPr/>
          <p:nvPr/>
        </p:nvPicPr>
        <p:blipFill>
          <a:blip r:embed="rId3"/>
          <a:stretch/>
        </p:blipFill>
        <p:spPr>
          <a:xfrm>
            <a:off x="5286240" y="3000240"/>
            <a:ext cx="2952720" cy="1047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http://www.znannya.org/images/math/lect/lect1-04-pic/lect1-5.jpg"/>
          <p:cNvPicPr/>
          <p:nvPr/>
        </p:nvPicPr>
        <p:blipFill>
          <a:blip r:embed="rId4"/>
          <a:stretch/>
        </p:blipFill>
        <p:spPr>
          <a:xfrm>
            <a:off x="5357880" y="4714920"/>
            <a:ext cx="3190680" cy="10285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7"/>
          <p:cNvSpPr/>
          <p:nvPr/>
        </p:nvSpPr>
        <p:spPr>
          <a:xfrm>
            <a:off x="285840" y="1714680"/>
            <a:ext cx="44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равило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285840" y="3000240"/>
            <a:ext cx="485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равило параллел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9"/>
          <p:cNvSpPr/>
          <p:nvPr/>
        </p:nvSpPr>
        <p:spPr>
          <a:xfrm>
            <a:off x="500040" y="478620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ложение трех векторов а, b и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3760"/>
            <a:ext cx="868680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д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разностью векторов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 и b понимается вектор с=а-b такой, что b+с=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2" descr="http://www.znannya.org/images/math/lect/lect1-04-pic/lect1-6.jpg"/>
          <p:cNvPicPr/>
          <p:nvPr/>
        </p:nvPicPr>
        <p:blipFill>
          <a:blip r:embed="rId2"/>
          <a:stretch/>
        </p:blipFill>
        <p:spPr>
          <a:xfrm>
            <a:off x="785880" y="3143160"/>
            <a:ext cx="6967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22400" y="23760"/>
            <a:ext cx="9028080" cy="14875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4600" indent="537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тметим, что в параллелограмме, построенном на векторах а и b одна направленная диагональ является суммой векторов а и b , а другая — разность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2" descr="http://www.znannya.org/images/math/lect/lect1-04-pic/lect1-7.jpg"/>
          <p:cNvPicPr/>
          <p:nvPr/>
        </p:nvPicPr>
        <p:blipFill>
          <a:blip r:embed="rId2"/>
          <a:stretch/>
        </p:blipFill>
        <p:spPr>
          <a:xfrm>
            <a:off x="1571760" y="3929040"/>
            <a:ext cx="5537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ка я отвечал на вопрос «Как поделится вектором?», я узнал, как складывать и вычитать векторы. Какими правилами можно пользоваться, чтобы делать это быстро. И, конечно же, теперь я точно знаю как поделится вектором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4:40:37Z</dcterms:created>
  <dc:creator>26534</dc:creator>
  <dc:description/>
  <dc:language>en-US</dc:language>
  <cp:lastModifiedBy>26534</cp:lastModifiedBy>
  <dcterms:modified xsi:type="dcterms:W3CDTF">2010-04-30T04:27:14Z</dcterms:modified>
  <cp:revision>10</cp:revision>
  <dc:subject/>
  <dc:title>Слайд 1</dc:title>
</cp:coreProperties>
</file>